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942-D90D-41DE-91EE-43369D5E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1BA-03EB-4483-B5F1-58B303D8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4EE-71EC-4B0B-84CB-E89F00A0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983-F7AD-496E-9CB5-B3772A22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E0B-8C8B-40AA-B668-E0C21B8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1E1-EE1C-4F86-B13A-24965391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17E-6609-4165-9FB2-65690B0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8B2-D24B-40FF-98BE-A87CEFB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A7A-0F24-4FCC-83E3-5431C82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366-F152-47F1-BCB9-C93E08D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BF1-95A5-4880-97D9-CD0690F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235-C624-4511-953B-51216A4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0DE-324F-4E38-BA08-C70454007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775480"/>
            <a:ext cx="853416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000" spc="-1" strike="noStrike">
                <a:solidFill>
                  <a:srgbClr val="ffffff"/>
                </a:solidFill>
                <a:latin typeface="Tahoma"/>
              </a:rPr>
              <a:t>ЩИТ ЗА ПРЕДПАЗВАН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ineas%20copy" descr=""/>
          <p:cNvPicPr/>
          <p:nvPr/>
        </p:nvPicPr>
        <p:blipFill>
          <a:blip r:embed="rId1"/>
          <a:stretch/>
        </p:blipFill>
        <p:spPr>
          <a:xfrm>
            <a:off x="344520" y="189000"/>
            <a:ext cx="845496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ontal%20lobe%20copy" descr=""/>
          <p:cNvPicPr/>
          <p:nvPr/>
        </p:nvPicPr>
        <p:blipFill>
          <a:blip r:embed="rId1"/>
          <a:stretch/>
        </p:blipFill>
        <p:spPr>
          <a:xfrm>
            <a:off x="252360" y="378000"/>
            <a:ext cx="8637480" cy="610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ontal-size%20copy" descr=""/>
          <p:cNvPicPr/>
          <p:nvPr/>
        </p:nvPicPr>
        <p:blipFill>
          <a:blip r:embed="rId1"/>
          <a:stretch/>
        </p:blipFill>
        <p:spPr>
          <a:xfrm>
            <a:off x="384120" y="189000"/>
            <a:ext cx="837576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zroci%20bolesti" descr=""/>
          <p:cNvPicPr/>
          <p:nvPr/>
        </p:nvPicPr>
        <p:blipFill>
          <a:blip r:embed="rId1"/>
          <a:stretch/>
        </p:blipFill>
        <p:spPr>
          <a:xfrm>
            <a:off x="252360" y="262080"/>
            <a:ext cx="8637480" cy="6333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ellok%20copy" descr=""/>
          <p:cNvPicPr/>
          <p:nvPr/>
        </p:nvPicPr>
        <p:blipFill>
          <a:blip r:embed="rId1"/>
          <a:stretch/>
        </p:blipFill>
        <p:spPr>
          <a:xfrm>
            <a:off x="392040" y="189000"/>
            <a:ext cx="835812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ela%20zdravlje%20copy" descr=""/>
          <p:cNvPicPr/>
          <p:nvPr/>
        </p:nvPicPr>
        <p:blipFill>
          <a:blip r:embed="rId1"/>
          <a:stretch/>
        </p:blipFill>
        <p:spPr>
          <a:xfrm>
            <a:off x="295200" y="189000"/>
            <a:ext cx="855360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008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2:38:01Z</dcterms:created>
  <dc:creator>ji</dc:creator>
  <dc:description/>
  <dc:language>en-US</dc:language>
  <cp:lastModifiedBy>Theodore N. Levterov</cp:lastModifiedBy>
  <dcterms:modified xsi:type="dcterms:W3CDTF">2005-05-13T08:28:39Z</dcterms:modified>
  <cp:revision>31</cp:revision>
  <dc:subject/>
  <dc:title>No Slide Title</dc:title>
</cp:coreProperties>
</file>